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E4A-9223-41DE-B88E-90A8A1AE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E8B-AF17-4F6D-81FC-D228725B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74B-4173-46D2-ABC9-EE55B477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439-EBD2-4988-97B2-F5BFBCA7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B28-AB54-4E57-A8A5-38A18C81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F88-E7C7-4AE9-A985-77957D28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E5D-57D4-48DC-BD47-465B46C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2BE-51D5-4A24-BA8B-418F8340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282-43CF-46FC-9F2B-EEEB986C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67E-8A0F-4DDB-A1BB-6DA41244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6FB-DC64-4D36-8F7E-6C88E28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168-A51E-4BC6-9C79-2412944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82F-7897-46C2-BFF6-F71BBB6E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ing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of a multi-ethnic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religious beliefs can be used to create 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 Hertogh Riots (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0s, a Dutch couple was captured by the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ughter, Maria Hertogh, was placed with a Malay lady, Amin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 was raised a Muslim and at 13, married a Malay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’s parents demanded the return of their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rt trial followed and the media coverage caused much unhappiness among the Muslim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gave custody to the Herto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lim community felt that the British legal system was unfair towards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used anger towards the European and Eurasian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ts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s had wide media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’s decision to annul Maria’s marriage and pictures of Maria in a Christian convent were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hings created unhappiness in the Muslim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riots, there was a 24hr curfew for 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nd Malayan troops, as well as the police were called in to keep th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ots showed that if religious issues are not handled carefully, hostility and distrust can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national terrorism can test the social bonds of Singapor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needs to handle this thre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experienced the threat of transnational terrorism in 2001 by Jemmah Islamiyah (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members of JI were arrestedunder the Internal Securi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aised funds and purchased materials for bo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argetted the US embassy and some government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JI member was arrested in April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olitical and religious leaders in Singapore called for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united voice, Muslim leaders condemned the JI group and emphasised that it did not have the support of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nderstanding can lead to suspicion and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experienced racial riots in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died, 560 inj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olitical approaches between Kuala Lumpur and Singapore caused a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worsened when PAP participated in Malaysia’s Fed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 called for a non-commu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ys in UMNO felt threa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PAP campaign organised by some UMNO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of Singapore Malays highl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’s resettlement and redevelopment programs portrayed as anti-Ma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NO claimed Malays were being upro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NO wanted to arouse feelings of dissatisfaction among Singapore Malays towards the 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tusan Melay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alay newspaper) was used by UMNO to spread the anti-PAP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claimed that 3000 Malay families affected by re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ality, only 2500 families were affected and only 200 were Ma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highlighted PAP did not care about Malays in 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pore govt called for a meeting with Malay organisations in July to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is meeting, UMNO had a meeting with the Ma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fiery speeches portrayed PAP as anti-Malay and angered the Ma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Prophet Mohammad’;s birthday (July 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h between Chinese policemen and Malay participants turned into full-blown race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property and loss o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de to call for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will committee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members went from house to house to spread the message of living peac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3:47:56Z</dcterms:created>
  <dc:creator>moe</dc:creator>
  <dc:description/>
  <dc:language>en-US</dc:language>
  <cp:lastModifiedBy>moe</cp:lastModifiedBy>
  <dcterms:modified xsi:type="dcterms:W3CDTF">2009-02-05T05:02:45Z</dcterms:modified>
  <cp:revision>2</cp:revision>
  <dc:subject/>
  <dc:title>Bonding Singapore</dc:title>
</cp:coreProperties>
</file>